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8F9-1BC0-4F2B-9A25-BFF27207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2E2B-4FC1-466D-AC6D-1D525B9B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3F9-FB41-4854-AA3E-35344DF6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7E3-2ACE-42C0-9045-76B14317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43AE-AA7C-4AB7-BEC9-BA08A6F8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0F55-A574-4CBF-89D3-EBAAB3E2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4EE5-1E38-4850-8F0C-3BF167F0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7716-831A-4C63-BC3D-77BD027B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16C7-1F33-4D2E-A8D6-5794FDE0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2F69-7BA6-47C3-BE1D-1121199D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042A-16B9-420F-969E-8927B224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4A9-4AC3-4E5B-80EC-18E2538A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5DB7-3292-459B-89B7-B2920945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A9B1-211A-4DAF-B675-9A74EB8A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57D5-849E-418B-B9B3-86ECB547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986A-D821-4B8D-9F12-88EB24A4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1937-63D7-480E-AF96-9BA4DC5B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AA2-C61D-4629-8658-55D4F57A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E91-A72E-4D3E-9F90-02249AAB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586-1E98-45C2-B527-97AD1BCA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C2D-EF76-4C32-A4FA-EC345774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EE5-0C49-4F7A-86F5-6DEAB5F8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258-B249-45CF-891A-CAE161C6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A8A-491F-43BB-ACB5-801AA43E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D4B0-999A-4EB4-81BC-87386CA872B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9612-419F-4EE3-ADAB-7D5FDFA87DD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11.xml"/><Relationship Id="rId4" Type="http://schemas.openxmlformats.org/officeDocument/2006/relationships/image" Target="../media/image7.png"/><Relationship Id="rId5" Type="http://schemas.openxmlformats.org/officeDocument/2006/relationships/slide" Target="slide10.xml"/><Relationship Id="rId6" Type="http://schemas.openxmlformats.org/officeDocument/2006/relationships/image" Target="../media/image8.png"/><Relationship Id="rId7" Type="http://schemas.openxmlformats.org/officeDocument/2006/relationships/slide" Target="slide10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image" Target="../media/image12.png"/><Relationship Id="rId11" Type="http://schemas.openxmlformats.org/officeDocument/2006/relationships/slide" Target="slide10.xm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" Target="slide13.xml"/><Relationship Id="rId4" Type="http://schemas.openxmlformats.org/officeDocument/2006/relationships/image" Target="../media/image8.png"/><Relationship Id="rId5" Type="http://schemas.openxmlformats.org/officeDocument/2006/relationships/slide" Target="slide13.xml"/><Relationship Id="rId6" Type="http://schemas.openxmlformats.org/officeDocument/2006/relationships/image" Target="../media/image10.pn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" Target="slide13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" Target="slide15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image" Target="../media/image8.png"/><Relationship Id="rId5" Type="http://schemas.openxmlformats.org/officeDocument/2006/relationships/slide" Target="slide16.xml"/><Relationship Id="rId6" Type="http://schemas.openxmlformats.org/officeDocument/2006/relationships/image" Target="../media/image10.png"/><Relationship Id="rId7" Type="http://schemas.openxmlformats.org/officeDocument/2006/relationships/slide" Target="slide16.xml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8.png"/><Relationship Id="rId3" Type="http://schemas.openxmlformats.org/officeDocument/2006/relationships/slide" Target="slide19.xml"/><Relationship Id="rId4" Type="http://schemas.openxmlformats.org/officeDocument/2006/relationships/image" Target="../media/image10.png"/><Relationship Id="rId5" Type="http://schemas.openxmlformats.org/officeDocument/2006/relationships/slide" Target="slide19.xm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3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slide" Target="slide4.xml"/><Relationship Id="rId8" Type="http://schemas.openxmlformats.org/officeDocument/2006/relationships/image" Target="../media/image9.png"/><Relationship Id="rId9" Type="http://schemas.openxmlformats.org/officeDocument/2006/relationships/slide" Target="slide4.xml"/><Relationship Id="rId10" Type="http://schemas.openxmlformats.org/officeDocument/2006/relationships/image" Target="../media/image10.png"/><Relationship Id="rId11" Type="http://schemas.openxmlformats.org/officeDocument/2006/relationships/slide" Target="slide5.xml"/><Relationship Id="rId12" Type="http://schemas.openxmlformats.org/officeDocument/2006/relationships/image" Target="../media/image11.png"/><Relationship Id="rId13" Type="http://schemas.openxmlformats.org/officeDocument/2006/relationships/slide" Target="slide4.xml"/><Relationship Id="rId14" Type="http://schemas.openxmlformats.org/officeDocument/2006/relationships/image" Target="../media/image12.png"/><Relationship Id="rId15" Type="http://schemas.openxmlformats.org/officeDocument/2006/relationships/slide" Target="slide4.xml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5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" Target="slide7.xml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image" Target="../media/image9.png"/><Relationship Id="rId9" Type="http://schemas.openxmlformats.org/officeDocument/2006/relationships/slide" Target="slide7.xml"/><Relationship Id="rId10" Type="http://schemas.openxmlformats.org/officeDocument/2006/relationships/image" Target="../media/image10.png"/><Relationship Id="rId11" Type="http://schemas.openxmlformats.org/officeDocument/2006/relationships/slide" Target="slide7.xml"/><Relationship Id="rId12" Type="http://schemas.openxmlformats.org/officeDocument/2006/relationships/image" Target="../media/image12.png"/><Relationship Id="rId13" Type="http://schemas.openxmlformats.org/officeDocument/2006/relationships/slide" Target="slide7.xml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Содержимое 2" descr=""/>
          <p:cNvPicPr/>
          <p:nvPr/>
        </p:nvPicPr>
        <p:blipFill>
          <a:blip r:embed="rId1"/>
          <a:stretch/>
        </p:blipFill>
        <p:spPr>
          <a:xfrm>
            <a:off x="2066760" y="3852720"/>
            <a:ext cx="6791400" cy="2224080"/>
          </a:xfrm>
          <a:prstGeom prst="rect">
            <a:avLst/>
          </a:prstGeom>
          <a:ln w="0">
            <a:noFill/>
          </a:ln>
        </p:spPr>
      </p:pic>
      <p:pic>
        <p:nvPicPr>
          <p:cNvPr id="170" name="Text Box 10" descr=""/>
          <p:cNvPicPr/>
          <p:nvPr/>
        </p:nvPicPr>
        <p:blipFill>
          <a:blip r:embed="rId2"/>
          <a:stretch/>
        </p:blipFill>
        <p:spPr>
          <a:xfrm>
            <a:off x="1596960" y="579600"/>
            <a:ext cx="7364520" cy="118872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2" descr=""/>
          <p:cNvPicPr/>
          <p:nvPr/>
        </p:nvPicPr>
        <p:blipFill>
          <a:blip r:embed="rId3"/>
          <a:stretch/>
        </p:blipFill>
        <p:spPr>
          <a:xfrm>
            <a:off x="2639880" y="6424560"/>
            <a:ext cx="3864240" cy="43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Admin\Рабочий стол\zzzzzzzz.jpg"/>
          <p:cNvPicPr/>
          <p:nvPr/>
        </p:nvPicPr>
        <p:blipFill>
          <a:blip r:embed="rId4"/>
          <a:stretch/>
        </p:blipFill>
        <p:spPr>
          <a:xfrm rot="20755800">
            <a:off x="676080" y="2284200"/>
            <a:ext cx="3471840" cy="2612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4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Копия я1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Рисунок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лягушка бык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2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2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3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34" name="Picture 27" descr="Копия ч11"/>
          <p:cNvPicPr/>
          <p:nvPr/>
        </p:nvPicPr>
        <p:blipFill>
          <a:blip r:embed="rId1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6" name="Picture 29" descr="Копия Копия 27"/>
          <p:cNvPicPr/>
          <p:nvPr/>
        </p:nvPicPr>
        <p:blipFill>
          <a:blip r:embed="rId1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белый, а летом серый, грызет морковку, боится лису-плутовк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Рисунок2"/>
          <p:cNvPicPr/>
          <p:nvPr/>
        </p:nvPicPr>
        <p:blipFill>
          <a:blip r:embed="rId5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лягушка бык"/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2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63" name="Picture 27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5" name="Picture 29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7" name="Picture 33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Text Box 35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Text Box 36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Text Box 37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Text Box 38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Text Box 39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Text Box 40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Text Box 41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0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1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2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AutoShape 1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AutoShape 1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AutoShape 1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AutoShape 1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WordArt 20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4" name="WordArt 21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5" name="WordArt 22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6" name="WordArt 23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7" name="WordArt 24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98" name="Picture 25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26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0" name="Picture 27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2" name="Picture 29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5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9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Рисунок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лягушка бык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4" name="WordArt 21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5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6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27" name="Picture 24" descr="Копия ч11"/>
          <p:cNvPicPr/>
          <p:nvPr/>
        </p:nvPicPr>
        <p:blipFill>
          <a:blip r:embed="rId11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9" name="Picture 26" descr="Копия Копия 27"/>
          <p:cNvPicPr/>
          <p:nvPr/>
        </p:nvPicPr>
        <p:blipFill>
          <a:blip r:embed="rId12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1" name="Picture 28" descr="Копия я12"/>
          <p:cNvPicPr/>
          <p:nvPr/>
        </p:nvPicPr>
        <p:blipFill>
          <a:blip r:embed="rId13"/>
          <a:stretch/>
        </p:blipFill>
        <p:spPr>
          <a:xfrm>
            <a:off x="2843280" y="38606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охнатый и зубастый, на реке поживет   и плотину возвед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4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5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56" name="Picture 24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8" name="Picture 26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0" name="Picture 28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2" name="Picture 32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34">
            <a:hlinkClick r:id="rId10" action="ppaction://hlinksldjump"/>
          </p:cNvPr>
          <p:cNvSpPr/>
          <p:nvPr/>
        </p:nvSpPr>
        <p:spPr>
          <a:xfrm>
            <a:off x="28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35">
            <a:hlinkClick r:id="rId11" action="ppaction://hlinksldjump"/>
          </p:cNvPr>
          <p:cNvSpPr/>
          <p:nvPr/>
        </p:nvSpPr>
        <p:spPr>
          <a:xfrm>
            <a:off x="40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36">
            <a:hlinkClick r:id="rId12" action="ppaction://hlinksldjump"/>
          </p:cNvPr>
          <p:cNvSpPr/>
          <p:nvPr/>
        </p:nvSpPr>
        <p:spPr>
          <a:xfrm>
            <a:off x="356400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37">
            <a:hlinkClick r:id="rId13" action="ppaction://hlinksldjump"/>
          </p:cNvPr>
          <p:cNvSpPr/>
          <p:nvPr/>
        </p:nvSpPr>
        <p:spPr>
          <a:xfrm>
            <a:off x="529272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40">
            <a:hlinkClick r:id="rId14" action="ppaction://hlinksldjump"/>
          </p:cNvPr>
          <p:cNvSpPr/>
          <p:nvPr/>
        </p:nvSpPr>
        <p:spPr>
          <a:xfrm>
            <a:off x="4859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73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6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7" name="WordArt 21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8" name="WordArt 2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89" name="Picture 23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24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1" name="Picture 25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6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3" name="Picture 27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5" name="Picture 29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AutoShape 38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8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0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лягушка бык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7" name="WordArt 21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18" name="Picture 22" descr="Копия ч11"/>
          <p:cNvPicPr/>
          <p:nvPr/>
        </p:nvPicPr>
        <p:blipFill>
          <a:blip r:embed="rId9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0" name="Picture 24" descr="Копия Копия 27"/>
          <p:cNvPicPr/>
          <p:nvPr/>
        </p:nvPicPr>
        <p:blipFill>
          <a:blip r:embed="rId10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2" name="Picture 26" descr="Копия я12"/>
          <p:cNvPicPr/>
          <p:nvPr/>
        </p:nvPicPr>
        <p:blipFill>
          <a:blip r:embed="rId11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4" name="Picture 28" descr="Рисунок2"/>
          <p:cNvPicPr/>
          <p:nvPr/>
        </p:nvPicPr>
        <p:blipFill>
          <a:blip r:embed="rId12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050920" y="5229360"/>
            <a:ext cx="496908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Большой, неуклюжий, бывает белы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и бурый, летом мед ес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лапу сос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AutoShape 32"/>
          <p:cNvSpPr/>
          <p:nvPr/>
        </p:nvSpPr>
        <p:spPr>
          <a:xfrm>
            <a:off x="2268360" y="6308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3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лягушка бык"/>
          <p:cNvPicPr/>
          <p:nvPr/>
        </p:nvPicPr>
        <p:blipFill>
          <a:blip r:embed="rId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47" name="Picture 22" descr="Копия ч11"/>
          <p:cNvPicPr/>
          <p:nvPr/>
        </p:nvPicPr>
        <p:blipFill>
          <a:blip r:embed="rId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9" name="Picture 24" descr="Копия Копия 27"/>
          <p:cNvPicPr/>
          <p:nvPr/>
        </p:nvPicPr>
        <p:blipFill>
          <a:blip r:embed="rId6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1" name="Picture 26" descr="Копия я12"/>
          <p:cNvPicPr/>
          <p:nvPr/>
        </p:nvPicPr>
        <p:blipFill>
          <a:blip r:embed="rId7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3" name="Picture 28" descr="Рисунок2"/>
          <p:cNvPicPr/>
          <p:nvPr/>
        </p:nvPicPr>
        <p:blipFill>
          <a:blip r:embed="rId8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5" name="Picture 32" descr="белый медведь"/>
          <p:cNvPicPr/>
          <p:nvPr/>
        </p:nvPicPr>
        <p:blipFill>
          <a:blip r:embed="rId9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Text Box 35">
            <a:hlinkClick r:id="rId10" action="ppaction://hlinksldjump"/>
          </p:cNvPr>
          <p:cNvSpPr/>
          <p:nvPr/>
        </p:nvSpPr>
        <p:spPr>
          <a:xfrm>
            <a:off x="21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36">
            <a:hlinkClick r:id="rId11" action="ppaction://hlinksldjump"/>
          </p:cNvPr>
          <p:cNvSpPr/>
          <p:nvPr/>
        </p:nvSpPr>
        <p:spPr>
          <a:xfrm>
            <a:off x="3419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37">
            <a:hlinkClick r:id="rId12" action="ppaction://hlinksldjump"/>
          </p:cNvPr>
          <p:cNvSpPr/>
          <p:nvPr/>
        </p:nvSpPr>
        <p:spPr>
          <a:xfrm>
            <a:off x="5940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Text Box 38">
            <a:hlinkClick r:id="rId13" action="ppaction://hlinksldjump"/>
          </p:cNvPr>
          <p:cNvSpPr/>
          <p:nvPr/>
        </p:nvSpPr>
        <p:spPr>
          <a:xfrm>
            <a:off x="4643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5" name="Picture 7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7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8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79" name="Picture 21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2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1" name="Picture 23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4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3" name="Picture 25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6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5" name="Picture 27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28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7" name="Picture 29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2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94" name="Picture 6" descr="г7г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Копия я1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лягушка бык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9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WordArt 1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06" name="WordArt 19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07" name="Picture 20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21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09" name="Picture 22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23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1" name="Picture 24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5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3" name="Picture 26" descr="Рисунок2"/>
          <p:cNvPicPr/>
          <p:nvPr/>
        </p:nvPicPr>
        <p:blipFill>
          <a:blip r:embed="rId10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2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5" name="Picture 28" descr="белый медведь"/>
          <p:cNvPicPr/>
          <p:nvPr/>
        </p:nvPicPr>
        <p:blipFill>
          <a:blip r:embed="rId11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30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2124000" y="5373720"/>
            <a:ext cx="4896000" cy="477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Летает, за всеми слова повтор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WordArt 35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143000" y="260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: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Информация вокруг на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1341360"/>
            <a:ext cx="806472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формирование навыков сортировки информации с учетом определенных признаков; развитие логического мышления, сообразительности, вним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39640" y="2492280"/>
            <a:ext cx="54007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од игры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центре изображены "клетки", куда следует поместить в указанную клетку по его описанию, дать название каждому животному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процессе игры внимательно читать и выполнять все зад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916360" y="765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2268360" y="609300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2268360" y="5084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2268360" y="5589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1476360" y="4292640"/>
            <a:ext cx="0" cy="2089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1476360" y="638172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476360" y="587700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476360" y="530064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8">
            <a:hlinkClick r:id="rId1" action="ppaction://hlinksldjump"/>
          </p:cNvPr>
          <p:cNvSpPr/>
          <p:nvPr/>
        </p:nvSpPr>
        <p:spPr>
          <a:xfrm>
            <a:off x="7380360" y="6237360"/>
            <a:ext cx="1584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чать игр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9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735280" cy="20527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sp>
        <p:nvSpPr>
          <p:cNvPr id="188" name="AutoShape 12">
            <a:hlinkClick r:id="rId3" action="ppaction://hlinksldjump"/>
          </p:cNvPr>
          <p:cNvSpPr/>
          <p:nvPr/>
        </p:nvSpPr>
        <p:spPr>
          <a:xfrm>
            <a:off x="7500960" y="4786200"/>
            <a:ext cx="1214280" cy="2858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Verdana"/>
              </a:rPr>
              <a:t>Литератур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24" name="Picture 6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6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37" name="Picture 19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9" name="Picture 21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1" name="Picture 23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3" name="Picture 25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5" name="Picture 27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7" name="Picture 29" descr="г7г"/>
          <p:cNvPicPr/>
          <p:nvPr/>
        </p:nvPicPr>
        <p:blipFill>
          <a:blip r:embed="rId9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32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Text Box 34">
            <a:hlinkClick r:id="rId10" action="ppaction://hlinksldjump"/>
          </p:cNvPr>
          <p:cNvSpPr/>
          <p:nvPr/>
        </p:nvSpPr>
        <p:spPr>
          <a:xfrm>
            <a:off x="2484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Text Box 35">
            <a:hlinkClick r:id="rId11" action="ppaction://hlinksldjump"/>
          </p:cNvPr>
          <p:cNvSpPr/>
          <p:nvPr/>
        </p:nvSpPr>
        <p:spPr>
          <a:xfrm>
            <a:off x="550872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Text Box 36">
            <a:hlinkClick r:id="rId12" action="ppaction://hlinksldjump"/>
          </p:cNvPr>
          <p:cNvSpPr/>
          <p:nvPr/>
        </p:nvSpPr>
        <p:spPr>
          <a:xfrm>
            <a:off x="39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6" name="Picture 7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58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9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1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4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5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6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7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68" name="Picture 19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0" name="Picture 21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2" name="Picture 23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4" name="Picture 25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Picture 27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8" name="Picture 29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34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1" name="AutoShape 36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8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97" name="WordArt 1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98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0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2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4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6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8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0" name="Text Box 31"/>
          <p:cNvSpPr/>
          <p:nvPr/>
        </p:nvSpPr>
        <p:spPr>
          <a:xfrm>
            <a:off x="2124000" y="5300640"/>
            <a:ext cx="489600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Хитрая, рыжая, кур таскает, хвостом вил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1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27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29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1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3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34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5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7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9" name="Picture 32" descr="Копия я16"/>
          <p:cNvPicPr/>
          <p:nvPr/>
        </p:nvPicPr>
        <p:blipFill>
          <a:blip r:embed="rId9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33" descr="Копия я16"/>
          <p:cNvPicPr/>
          <p:nvPr/>
        </p:nvPicPr>
        <p:blipFill>
          <a:blip r:embed="rId10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Text Box 35"/>
          <p:cNvSpPr/>
          <p:nvPr/>
        </p:nvSpPr>
        <p:spPr>
          <a:xfrm>
            <a:off x="313200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Text Box 36"/>
          <p:cNvSpPr/>
          <p:nvPr/>
        </p:nvSpPr>
        <p:spPr>
          <a:xfrm>
            <a:off x="4932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48" name="Picture 7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3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58" name="Picture 17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1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0" name="Picture 19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2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2" name="Picture 21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22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4" name="Picture 23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24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6" name="Picture 25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2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8" name="Picture 27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28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0" name="Picture 30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34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2" name="AutoShape 36"/>
          <p:cNvSpPr/>
          <p:nvPr/>
        </p:nvSpPr>
        <p:spPr>
          <a:xfrm>
            <a:off x="611280" y="5805360"/>
            <a:ext cx="7993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тексту с соответствующей информацией о животном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которое следует поместить в клетку №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3" name="Text Box 37"/>
          <p:cNvSpPr/>
          <p:nvPr/>
        </p:nvSpPr>
        <p:spPr>
          <a:xfrm>
            <a:off x="6588000" y="3860640"/>
            <a:ext cx="2089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елененькая, 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кочки на кочку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4" name="Text Box 38"/>
          <p:cNvSpPr/>
          <p:nvPr/>
        </p:nvSpPr>
        <p:spPr>
          <a:xfrm>
            <a:off x="395280" y="3860640"/>
            <a:ext cx="2089080" cy="1519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дупле живе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ночью голос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д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9" name="Picture 6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80" name="AutoShape 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AutoShape 8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2" name="AutoShape 9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3" name="AutoShape 10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AutoShape 11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AutoShape 12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AutoShape 13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AutoShape 14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88" name="Picture 16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7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0" name="Picture 18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19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2" name="Picture 20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1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4" name="Picture 22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23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6" name="Picture 24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97" name="Text Box 25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8" name="Picture 26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27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0" name="Picture 28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29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2" name="Picture 31" descr="лягушка бык"/>
          <p:cNvPicPr/>
          <p:nvPr/>
        </p:nvPicPr>
        <p:blipFill>
          <a:blip r:embed="rId9"/>
          <a:stretch/>
        </p:blipFill>
        <p:spPr>
          <a:xfrm>
            <a:off x="2195640" y="2565360"/>
            <a:ext cx="1296720" cy="101124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32"/>
          <p:cNvSpPr/>
          <p:nvPr/>
        </p:nvSpPr>
        <p:spPr>
          <a:xfrm>
            <a:off x="2124000" y="3429000"/>
            <a:ext cx="79236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Text Box 33"/>
          <p:cNvSpPr/>
          <p:nvPr/>
        </p:nvSpPr>
        <p:spPr>
          <a:xfrm>
            <a:off x="3851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5" name="WordArt 34" descr=""/>
          <p:cNvPicPr/>
          <p:nvPr/>
        </p:nvPicPr>
        <p:blipFill>
          <a:blip r:embed="rId10"/>
          <a:stretch/>
        </p:blipFill>
        <p:spPr>
          <a:xfrm>
            <a:off x="1390680" y="5224320"/>
            <a:ext cx="600372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1000" fill="hold"/>
                                        <p:tgtEl>
                                          <p:spTgt spid="9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1214280" y="714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1643040" y="135720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ауэр Э.В., Фай Г. Цветной атлас животных (пер. со словац. Широковой П.Ф.). Лик пресс Поматур, 2001 г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Солошенко Д.. Сборник загадок. Лесные загадки. Издательство Кредо, 2008 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12859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СУРСЫ ИНТЕРНЕТ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1643040" y="36432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ttp://wiki.syktsu.ru/images/3/35/079.jp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AutoShape 12"/>
          <p:cNvSpPr/>
          <p:nvPr/>
        </p:nvSpPr>
        <p:spPr>
          <a:xfrm>
            <a:off x="3857760" y="5214960"/>
            <a:ext cx="1428480" cy="3571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гр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9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2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2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AutoShape 2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WordArt 31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WordArt 36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2" name="WordArt 37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3" name="WordArt 3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4" name="WordArt 39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5" name="WordArt 4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6" name="WordArt 41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7" name="WordArt 4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Копия ч1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Рисунок2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лягушка бык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WordArt 22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39" name="WordArt 24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0" name="WordArt 25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1" name="WordArt 2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2" name="WordArt 27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3" name="WordArt 2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4" name="WordArt 29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5" name="WordArt 30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В земле копается, червяками питается, яйца кладет и пшено клю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2" name="WordArt 2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3" name="WordArt 28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4" name="WordArt 29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5" name="Text Box 30">
            <a:hlinkClick r:id="rId9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Picture 32" descr="Копия ч11"/>
          <p:cNvPicPr/>
          <p:nvPr/>
        </p:nvPicPr>
        <p:blipFill>
          <a:blip r:embed="rId10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37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Text Box 38">
            <a:hlinkClick r:id="rId12" action="ppaction://hlinksldjump"/>
          </p:cNvPr>
          <p:cNvSpPr/>
          <p:nvPr/>
        </p:nvSpPr>
        <p:spPr>
          <a:xfrm>
            <a:off x="2195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Text Box 39">
            <a:hlinkClick r:id="rId13" action="ppaction://hlinksldjump"/>
          </p:cNvPr>
          <p:cNvSpPr/>
          <p:nvPr/>
        </p:nvSpPr>
        <p:spPr>
          <a:xfrm>
            <a:off x="3419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Text Box 40">
            <a:hlinkClick r:id="rId14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41">
            <a:hlinkClick r:id="rId15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42">
            <a:hlinkClick r:id="rId16" action="ppaction://hlinksldjump"/>
          </p:cNvPr>
          <p:cNvSpPr/>
          <p:nvPr/>
        </p:nvSpPr>
        <p:spPr>
          <a:xfrm>
            <a:off x="46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Text Box 43">
            <a:hlinkClick r:id="rId17" action="ppaction://hlinksldjump"/>
          </p:cNvPr>
          <p:cNvSpPr/>
          <p:nvPr/>
        </p:nvSpPr>
        <p:spPr>
          <a:xfrm>
            <a:off x="58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WordArt 22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5" name="WordArt 23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6" name="WordArt 24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7" name="WordArt 25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8" name="WordArt 26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9" name="WordArt 27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10" name="WordArt 28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11" name="Picture 30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3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8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Рисунок2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лягушка бык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4" name="WordArt 22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5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6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7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8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9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40" name="Picture 28" descr="Копия ч11"/>
          <p:cNvPicPr/>
          <p:nvPr/>
        </p:nvPicPr>
        <p:blipFill>
          <a:blip r:embed="rId1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лзает и плавает, чешуей сверкает, плохих людей кус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8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4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5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6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7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8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69" name="Picture 28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1" name="Picture 32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Text Box 34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Text Box 35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Text Box 36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Text Box 37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Text Box 38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Text Box 39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Text Box 40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0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1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2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3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4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05" name="Picture 27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7" name="Picture 29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7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6:40:59Z</dcterms:created>
  <dc:creator>Ольга</dc:creator>
  <dc:description/>
  <dc:language>en-US</dc:language>
  <cp:lastModifiedBy>Оленька</cp:lastModifiedBy>
  <dcterms:modified xsi:type="dcterms:W3CDTF">2007-01-17T21:11:17Z</dcterms:modified>
  <cp:revision>26</cp:revision>
  <dc:subject/>
  <dc:title>Слайд 1</dc:title>
</cp:coreProperties>
</file>